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768EF-A63A-4E0E-9CDC-F2B7F4E3ED33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9AC70-2204-4748-8F00-FEFD98C95C44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C9BF-B4C7-4219-BE2D-60DC4B831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0591-0975-4779-B15F-6AF58AB9D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BA7464-1A27-49E0-9FCA-DC6677F23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6FDD5B-DD1C-4390-A8EB-4753722F9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B7F902-A81F-45AC-A9A9-F4E0A1BFA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81A9B4-066D-485B-B9E6-1F44E18A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B88ACC-3D39-4D02-BD50-EBF453BC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62E7C3-F686-459E-903C-239E55C6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486226-49F0-45DC-83BD-AF499FA5E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07E613-5B89-4105-831B-750FC04D1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19FBD0-8E36-4B6F-9032-9DC44F375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7B9AF2-D672-41C6-9F38-1E409F767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6FD3-9E18-45D5-A742-A10256DDB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FA9660-422A-448C-A15F-49340E7C9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865393-6586-4FE2-A821-5FE6FAA44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CE6DE7-3CBB-4980-B516-39E8462EC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CE31E4-39E3-4B57-9DAC-81CFC2C92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BC59D1-20B6-407E-BCDF-61D44937F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AE13DC-802F-444D-915C-0A0722FE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8FDB9C-1661-4EFB-A131-A3E4FF62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F646C7-DE8B-40F3-827E-416AC899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56BBED-2129-4061-B0A9-0854F276B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EABD2C-29E3-464A-96F0-4397E1629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7AE0-8CE3-434B-851C-2D3E01AB6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E0619A-B42B-4387-B572-28BF7DA1A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5155C7-31C7-4FBE-BD9C-2DF11C7DF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051230-A678-4586-AD5D-97DA04619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FEDBC4-991C-42EC-93B4-C1CE99D37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2DC5BF-64F4-4B9E-BA80-A7A9D2917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F9D21B-657E-49FA-80B3-EAAE0827A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8BF75C-5B33-4A4B-8415-67D9DE6F2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489E32-1BBE-4255-9A29-ED19E924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CE089B-9891-43B8-BBBE-179A0F51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50CC8D-CC7F-441E-8ABD-62CDE452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2B769-9DD9-4E1E-A5CE-4692AF74C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0830DE-8B69-4E5F-A4A1-851EFCBAF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90EAF2-802D-4B5B-87A7-6C62133B4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0E2BBC-264D-4295-A9AA-CFCBA2B28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B0B70A-2C0F-43DA-9F71-0C22E5174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B12DFE-94DD-4309-93E4-F79DF950E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E4607E-1D4E-4264-9E8D-3B274BAB3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03EAD9-47F1-4202-9878-387E014C0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49E54E-3A4A-4CB5-BDE8-02FF36CEC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02B5CF-D8B2-4004-B89B-DEC23E971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0C4AF4-8BED-423B-9F7B-2780EFA7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F1784-DD1A-4F53-8B7F-EAD98F50B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35A783-FECF-43F2-A7AE-1CA385BD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142ACC-E0F8-4EF8-880A-3144E40E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5D5BD8-DE5C-410B-A65C-90D74C504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62C0FA-BB49-4424-AC31-8A2F0EF69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2EC76E-1357-4A09-872D-0236F8587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6D1E7-03B0-4A2A-A125-8762C0084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1820A-BE9A-482A-95E6-D5E698BD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77CA4-9B61-4B40-BDF8-8E1756A47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6979F-F3D4-44DF-8FED-A91960FC1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1D871-2466-40D7-94B8-302010FF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C04E-9D2A-4A4D-AB68-69BEED7E9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E0081-4F28-4F79-8270-20DA24A1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32A9A-34B6-47A6-B7EF-75DC0480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A79FA-BA43-4651-8DCD-1346B56D2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B243A-B2AC-4C1B-8033-33805BD0F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02006-F7A9-4BC7-A123-48D816EF4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83897-52D7-4219-87F7-CC4C375D8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27402-2639-465E-8096-32587607E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36E5B-2BF1-404F-A43D-3DC2428B6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7B499-A6C4-4334-AEC1-21880FAD2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9B517-1F3C-4B10-B4AE-68147C42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263B-FB91-47CB-A909-18769EE2F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8C3C5-E9FD-48B1-8154-A3BEB427C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031A4-DAAE-4EDD-AA32-284D5244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1554C-E37F-44DA-B8E5-92A35783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62265-DAE9-4C0D-BEB2-1E7B9C88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98ECA-2BB4-4D7E-BFA4-E6473166D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30D6F-5439-4135-AA2F-45D00DC59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CAF93-6A10-4E0D-B505-069B0B944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01411-5079-4C44-AAFF-7D0C908AF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119EA-9E5B-425B-B4C5-F47E5F876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944E4-7EA8-4546-8027-C7A030ABE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FCA4-B877-4D65-A594-0C88CDD1B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028A3-6C03-4B70-BCD6-2ADE4C0D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64976-4BE7-43CF-9638-D0C1FC9C4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7A3E8-AC2A-4689-8D56-9540AD1C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777E8-424C-4D9C-9D23-C15268EA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25B01-FCD2-48BF-B90C-A9755ECB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C83ED-509C-4B01-B57C-8774B908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4D625-4814-4E99-95CB-CFE50054A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D5DD6-C30A-49EF-8BCF-9B0A2F362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787AA-AB72-48FB-A991-59B1AEFAE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05FBA-BF9A-4040-8664-4D7CB3C66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3B5A-1123-4B7F-9C25-B4C8CDC59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65A55-6511-46BE-B09E-0F89C11AB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D526C-5AFE-4292-ADEA-2C2A33821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DEE2F-5CF8-40C1-8510-55971186F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840A3-99FA-4D98-B970-1ACB157D4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7FB17-7047-40C8-B425-A1EC71B4B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297BF-3546-4D1D-97F6-DA15F1E8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2CFC0-A84D-4364-8B17-B372DBBD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79A9A-FFBF-440B-AD24-599A8125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1EC43-4517-43E2-B9D4-274CFAA51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00313-B8D4-4BA9-B2B1-4E9F83621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F64F-50D5-4599-9501-4437530D0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20247-E8AD-4A67-868A-E8FF29F87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38A46-1E4F-41A0-BAC3-5643A58AC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0EEDB-0C20-492E-9A25-957F21DA1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49359-BD72-4D82-8BC0-B830EBEEB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65A0B-9525-480F-BF2B-A72A4C886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9E4F1-86C4-4106-96EE-94FD50CD8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22C0E-05BB-4670-A124-7DD69A09A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4BD92C-C7F0-4651-91E9-B94EBA70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944E1-F1B4-44F7-8B11-6A63360A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24A16-5482-4D0B-93F5-86E74624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0225-5C09-4C8E-8128-E2992525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2D1C6-1419-4C8B-B378-7CD62822A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322BF-2C80-4A87-885D-635CA3735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8FEDF4-AAFE-4123-BC2B-B39F7D835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60BB85-0CE8-4720-A9F5-7E99664F1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C0C46-086C-4119-8F1C-FC57EFCDE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262D25-A910-4A01-8373-B4E7075F6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05E81-F2A5-4EE7-AEFC-D0AC40511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A3F4D-6B4F-48C0-9058-E0378E558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4289B-C706-4665-BB1E-B1EDE2C08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8E83A1-5519-48AB-820F-2615AF43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5CE5-3632-43A1-8310-29D55139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6F734-ECC6-41A0-B8E1-41467200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E05996-2170-4597-ABEA-0F934820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0648C-62E6-4ECF-8DF3-C902D8D12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8A6165-5635-44A2-9BBB-04EE95F21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757937-24A1-4048-B93C-F87726A44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D5BE0B-1E9C-4DE3-82E1-DE9C37907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39DDD5-9735-4A54-997A-CEAFB2A57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C93FD0-42A5-4854-ABD8-DAB5DB4A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D2B237-D142-4F9D-B57D-84EA79265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CEE6E6-41E5-4285-8D54-F23C6DDDE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CE9F-3D5C-4A40-8210-AE40F4B0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3DEEB-7AB4-4020-A067-BD9DE53DB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2BB3B2-6C0A-44B5-B133-BA8031B7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2FAA57-33D6-4742-BA73-9879ED87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49868F-8728-4ED6-8B50-838430BF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BC5FAD-ABCA-49D3-B323-6CDEE9050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744415-73FC-43A0-A977-549CA4D82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A964D4-EBEC-47E4-B41C-6B45B7D71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B8F351-E818-44B0-8444-11F69BEF4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F0B4FA-D410-4EB0-BC43-EA759DE7C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CC3CA5-E52A-4778-BDCC-71F3C944F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D0F12-4655-48A6-A5FF-39911D2065E1}" type="datetime">
              <a:rPr b="0" lang="en-NZ" sz="1400" spc="-1" strike="noStrike">
                <a:solidFill>
                  <a:srgbClr val="000000"/>
                </a:solidFill>
                <a:latin typeface="Arial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Course Selection and Careers Expo 20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27E22-3EFF-4B23-96B8-38BC2816BC7C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E9C02-193F-4B6D-B62F-FA485CA2F9A4}" type="datetime"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Course Selection and Careers Expo 20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0F8E-79E6-4EEE-BC23-61569A97551C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B9701-3C6C-46CC-9197-297AF55D89AC}" type="datetime"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Course Selection and Careers Expo 20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AF375-EA76-411B-B564-2863B0A7BB3A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309C3-6328-4638-9EA8-AD514CD21103}" type="datetime"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Course Selection and Careers Expo 20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0CEE1-8CFC-4C1F-ACFE-BB888A4F4BF4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8D811-FD9B-4DE4-B58F-4120C6A3E760}" type="datetime"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Course Selection and Careers Expo 20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A10DA-EB06-4EB6-9CDD-E10CF526F70B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2C66E-227E-4E29-9AC7-D9715670FC65}" type="datetime"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Course Selection and Careers Expo 20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F3498-732C-40AC-AB29-3E936B5A85B9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E8F27-D910-4862-A646-952B84EB0118}" type="datetime"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Course Selection and Careers Expo 20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863BC-5220-4EEB-88B0-C1A3E4E3C652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0825D-0E02-48A9-B88B-B12589231DD3}" type="datetime"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Course Selection and Careers Expo 20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34111-70DB-4CA1-8A92-75DBA6FD4BD8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524E3-77FB-4B09-AFC5-BB8572500599}" type="datetime"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Course Selection and Careers Expo 20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4C516-3620-4386-BAA0-023331B02910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9AF96-4C8F-4538-9B51-DEC12889CA94}" type="datetime"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Course Selection and Careers Expo 20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10B55-713C-4D93-B545-C47EC650A6DC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ABCF1-D833-4B8E-8D96-393E565AB25C}" type="datetime"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Course Selection and Careers Expo 20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B46D8-3D4D-4121-A42D-3C3ED8F08520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ECBE5-9951-49CC-A22D-073AA61CAC21}" type="datetime"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Course Selection and Careers Expo 20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5B55-7ACA-4972-9BD8-7F1BF3289406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kingsway.school.nz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kamar@kingsway.school.nz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1"/>
          <p:cNvSpPr/>
          <p:nvPr/>
        </p:nvSpPr>
        <p:spPr>
          <a:xfrm>
            <a:off x="1692360" y="2637000"/>
            <a:ext cx="5000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Monotype Corsiva"/>
              </a:rPr>
              <a:t>Welcome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Date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C6E55-6F02-4C2B-817D-81F582EA5CE4}" type="datetime">
              <a:rPr b="0" lang="en-NZ" sz="1400" spc="-1" strike="noStrike">
                <a:solidFill>
                  <a:srgbClr val="000000"/>
                </a:solidFill>
                <a:latin typeface="Tahoma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1" name="Group 5"/>
          <p:cNvGrpSpPr/>
          <p:nvPr/>
        </p:nvGrpSpPr>
        <p:grpSpPr>
          <a:xfrm>
            <a:off x="0" y="-12600"/>
            <a:ext cx="9174240" cy="1212840"/>
            <a:chOff x="0" y="-12600"/>
            <a:chExt cx="9174240" cy="1212840"/>
          </a:xfrm>
        </p:grpSpPr>
        <p:sp>
          <p:nvSpPr>
            <p:cNvPr id="502" name="Rectangle 6"/>
            <p:cNvSpPr/>
            <p:nvPr/>
          </p:nvSpPr>
          <p:spPr>
            <a:xfrm>
              <a:off x="0" y="98640"/>
              <a:ext cx="63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800" spc="-1" strike="noStrike">
                  <a:solidFill>
                    <a:srgbClr val="333399"/>
                  </a:solidFill>
                  <a:latin typeface="Verdana"/>
                </a:rPr>
                <a:t>Course Selection 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800" spc="-1" strike="noStrike">
                  <a:solidFill>
                    <a:srgbClr val="333399"/>
                  </a:solidFill>
                  <a:latin typeface="Verdana"/>
                </a:rPr>
                <a:t>and Careers Expo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503" name="Picture 4" descr=""/>
            <p:cNvPicPr/>
            <p:nvPr/>
          </p:nvPicPr>
          <p:blipFill>
            <a:blip r:embed="rId1"/>
            <a:stretch/>
          </p:blipFill>
          <p:spPr>
            <a:xfrm>
              <a:off x="5436360" y="-12600"/>
              <a:ext cx="373788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Line 6"/>
            <p:cNvSpPr/>
            <p:nvPr/>
          </p:nvSpPr>
          <p:spPr>
            <a:xfrm>
              <a:off x="0" y="1197360"/>
              <a:ext cx="9144720" cy="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Date Placeholder 1"/>
          <p:cNvSpPr/>
          <p:nvPr/>
        </p:nvSpPr>
        <p:spPr>
          <a:xfrm>
            <a:off x="45720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41143-7D0D-4DB1-8870-BF93A9CE8D19}" type="datetime">
              <a:rPr b="0" lang="en-NZ" sz="1400" spc="-1" strike="noStrike">
                <a:solidFill>
                  <a:srgbClr val="000000"/>
                </a:solidFill>
                <a:latin typeface="Tahoma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Footer Placeholder 2"/>
          <p:cNvSpPr/>
          <p:nvPr/>
        </p:nvSpPr>
        <p:spPr>
          <a:xfrm>
            <a:off x="3124080" y="6381720"/>
            <a:ext cx="37720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Tahoma"/>
              </a:rPr>
              <a:t>Course Selection and Careers Expo 201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Rectangle 4"/>
          <p:cNvSpPr/>
          <p:nvPr/>
        </p:nvSpPr>
        <p:spPr>
          <a:xfrm>
            <a:off x="214200" y="1413000"/>
            <a:ext cx="8715600" cy="51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Tahoma"/>
              </a:rPr>
              <a:t>Exceptions by application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ahoma"/>
              </a:rPr>
              <a:t>SIXTH SUBJECT APPLICATION </a:t>
            </a:r>
            <a:br>
              <a:rPr sz="2800"/>
            </a:br>
            <a:r>
              <a:rPr b="0" lang="en-NZ" sz="10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ahoma"/>
              </a:rPr>
              <a:t>EXEMPTION FROM L2 ENGLISH</a:t>
            </a:r>
            <a:br>
              <a:rPr sz="2800"/>
            </a:br>
            <a:r>
              <a:rPr b="0" lang="en-NZ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ahoma"/>
              </a:rPr>
              <a:t>APPLICATION TO ACCELERATE  </a:t>
            </a:r>
            <a:br>
              <a:rPr sz="2800"/>
            </a:br>
            <a:r>
              <a:rPr b="0" lang="en-NZ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ahoma"/>
              </a:rPr>
              <a:t>CORRESPONDENCE SCHOOL SU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ahoma"/>
              </a:rPr>
              <a:t>Forms to apply for each of these exceptions are on </a:t>
            </a:r>
            <a:r>
              <a:rPr b="0" lang="en-NZ" sz="28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www.kingsway.school.nz</a:t>
            </a:r>
            <a:r>
              <a:rPr b="0" lang="en-NZ" sz="2800" spc="-1" strike="noStrike">
                <a:solidFill>
                  <a:srgbClr val="000000"/>
                </a:solidFill>
                <a:latin typeface="Tahoma"/>
              </a:rPr>
              <a:t> senior school /course selection p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5" name="Group 7"/>
          <p:cNvGrpSpPr/>
          <p:nvPr/>
        </p:nvGrpSpPr>
        <p:grpSpPr>
          <a:xfrm>
            <a:off x="0" y="-12600"/>
            <a:ext cx="9174240" cy="1212840"/>
            <a:chOff x="0" y="-12600"/>
            <a:chExt cx="9174240" cy="1212840"/>
          </a:xfrm>
        </p:grpSpPr>
        <p:sp>
          <p:nvSpPr>
            <p:cNvPr id="556" name="Rectangle 6"/>
            <p:cNvSpPr/>
            <p:nvPr/>
          </p:nvSpPr>
          <p:spPr>
            <a:xfrm>
              <a:off x="0" y="98640"/>
              <a:ext cx="63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800" spc="-1" strike="noStrike">
                  <a:solidFill>
                    <a:srgbClr val="333399"/>
                  </a:solidFill>
                  <a:latin typeface="Verdana"/>
                </a:rPr>
                <a:t>Course Selection 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800" spc="-1" strike="noStrike">
                  <a:solidFill>
                    <a:srgbClr val="333399"/>
                  </a:solidFill>
                  <a:latin typeface="Verdana"/>
                </a:rPr>
                <a:t>and Careers Expo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557" name="Picture 10" descr=""/>
            <p:cNvPicPr/>
            <p:nvPr/>
          </p:nvPicPr>
          <p:blipFill>
            <a:blip r:embed="rId2"/>
            <a:stretch/>
          </p:blipFill>
          <p:spPr>
            <a:xfrm>
              <a:off x="5436360" y="-12600"/>
              <a:ext cx="373788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Line 6"/>
            <p:cNvSpPr/>
            <p:nvPr/>
          </p:nvSpPr>
          <p:spPr>
            <a:xfrm>
              <a:off x="0" y="1197360"/>
              <a:ext cx="9144720" cy="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9" name="Group 8"/>
          <p:cNvGrpSpPr/>
          <p:nvPr/>
        </p:nvGrpSpPr>
        <p:grpSpPr>
          <a:xfrm>
            <a:off x="0" y="-12600"/>
            <a:ext cx="9174240" cy="1212840"/>
            <a:chOff x="0" y="-12600"/>
            <a:chExt cx="9174240" cy="1212840"/>
          </a:xfrm>
        </p:grpSpPr>
        <p:sp>
          <p:nvSpPr>
            <p:cNvPr id="560" name="Rectangle 6"/>
            <p:cNvSpPr/>
            <p:nvPr/>
          </p:nvSpPr>
          <p:spPr>
            <a:xfrm>
              <a:off x="0" y="98640"/>
              <a:ext cx="63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800" spc="-1" strike="noStrike">
                  <a:solidFill>
                    <a:srgbClr val="333399"/>
                  </a:solidFill>
                  <a:latin typeface="Verdana"/>
                </a:rPr>
                <a:t>Course Selection 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800" spc="-1" strike="noStrike">
                  <a:solidFill>
                    <a:srgbClr val="333399"/>
                  </a:solidFill>
                  <a:latin typeface="Verdana"/>
                </a:rPr>
                <a:t>and Careers Expo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561" name="Picture 11" descr=""/>
            <p:cNvPicPr/>
            <p:nvPr/>
          </p:nvPicPr>
          <p:blipFill>
            <a:blip r:embed="rId1"/>
            <a:stretch/>
          </p:blipFill>
          <p:spPr>
            <a:xfrm>
              <a:off x="5436360" y="-12600"/>
              <a:ext cx="373788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" name="Line 6"/>
            <p:cNvSpPr/>
            <p:nvPr/>
          </p:nvSpPr>
          <p:spPr>
            <a:xfrm>
              <a:off x="0" y="1197360"/>
              <a:ext cx="9144720" cy="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3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64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Date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08CE-77AF-46C1-9CD8-FFF691AB9746}" type="datetime">
              <a:rPr b="0" lang="en-NZ" sz="1400" spc="-1" strike="noStrike">
                <a:solidFill>
                  <a:srgbClr val="000000"/>
                </a:solidFill>
                <a:latin typeface="Tahoma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Tahoma"/>
              </a:rPr>
              <a:t>Course Selection and Careers Expo 201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Title 1"/>
          <p:cNvSpPr/>
          <p:nvPr/>
        </p:nvSpPr>
        <p:spPr>
          <a:xfrm>
            <a:off x="190440" y="1197000"/>
            <a:ext cx="87631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3000"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333399"/>
                </a:solidFill>
                <a:latin typeface="Verdana"/>
              </a:rPr>
              <a:t>SUBJECT SELECTIO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-12600" y="1036800"/>
          <a:ext cx="9144000" cy="5883120"/>
        </p:xfrm>
        <a:graphic>
          <a:graphicData uri="http://schemas.openxmlformats.org/drawingml/2006/table">
            <a:tbl>
              <a:tblPr/>
              <a:tblGrid>
                <a:gridCol w="2340000"/>
                <a:gridCol w="2519280"/>
                <a:gridCol w="2160720"/>
                <a:gridCol w="2124000"/>
              </a:tblGrid>
              <a:tr h="426960"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EAR 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EAR 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EAR 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EAR 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621520"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COMPULSORY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*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* Mathemat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* Sci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* Social Stud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 </a:t>
                      </a:r>
                      <a:r>
                        <a:rPr b="0" lang="en-NZ" sz="18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Biblical Stud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* Heal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* Physical Edu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* </a:t>
                      </a:r>
                      <a:r>
                        <a:rPr b="0" lang="en-NZ" sz="18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</a:rPr>
                        <a:t>Plus 4 subj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COMPULSORY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r>
                        <a:rPr b="0" lang="en-NZ" sz="18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*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* Mathemat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* Biblical Studies </a:t>
                      </a:r>
                      <a:r>
                        <a:rPr b="1" lang="en-NZ" sz="1800" spc="-1" strike="noStrike" u="sng">
                          <a:solidFill>
                            <a:srgbClr val="0033cc"/>
                          </a:solidFill>
                          <a:uFillTx/>
                          <a:latin typeface="Arial"/>
                          <a:ea typeface="Arial"/>
                        </a:rPr>
                        <a:t>or</a:t>
                      </a:r>
                      <a:r>
                        <a:rPr b="0" lang="en-NZ" sz="18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NZ" sz="18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L1Religious Stud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* Physical Education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* </a:t>
                      </a:r>
                      <a:r>
                        <a:rPr b="0" lang="en-NZ" sz="18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</a:rPr>
                        <a:t>Plus 3 subj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COMPULSORY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* Biblical Studies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* </a:t>
                      </a:r>
                      <a:r>
                        <a:rPr b="0" lang="en-NZ" sz="18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</a:rPr>
                        <a:t>Plus 5 subj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COMPULSORY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33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Biblical Studies</a:t>
                      </a:r>
                      <a:br>
                        <a:rPr sz="1800"/>
                      </a:br>
                      <a:r>
                        <a:rPr b="0" lang="en-NZ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33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33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33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33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* </a:t>
                      </a:r>
                      <a:r>
                        <a:rPr b="0" lang="en-NZ" sz="18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</a:rPr>
                        <a:t>Plus 5 subj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2834640"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SUBJECT SELEC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lect </a:t>
                      </a:r>
                      <a:r>
                        <a:rPr b="0" lang="en-NZ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6 options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in order of p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elect 6 subjects, where the 5</a:t>
                      </a:r>
                      <a:r>
                        <a:rPr b="0" lang="en-NZ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amp; 6</a:t>
                      </a:r>
                      <a:r>
                        <a:rPr b="0" lang="en-NZ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re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CKUPS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SUBJECT SELEC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lect </a:t>
                      </a:r>
                      <a:r>
                        <a:rPr b="0" lang="en-NZ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4 option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 in order of p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elect 4 subjects, where the 4</a:t>
                      </a:r>
                      <a:r>
                        <a:rPr b="0" lang="en-NZ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 a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CKUP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SUBJECT SELEC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lect </a:t>
                      </a:r>
                      <a:r>
                        <a:rPr b="0" lang="en-NZ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6 options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in order of p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elect 6 subjects, where the 6</a:t>
                      </a:r>
                      <a:r>
                        <a:rPr b="0" lang="en-NZ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 a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CKUP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en-N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SUBJECT SELEC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lect </a:t>
                      </a:r>
                      <a:r>
                        <a:rPr b="0" lang="en-NZ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6 options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in order of p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elect 6 where the 6</a:t>
                      </a:r>
                      <a:r>
                        <a:rPr b="0" lang="en-NZ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subject is a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CKUP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</a:tr>
            </a:tbl>
          </a:graphicData>
        </a:graphic>
      </p:graphicFrame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Date Placeholder 1"/>
          <p:cNvSpPr/>
          <p:nvPr/>
        </p:nvSpPr>
        <p:spPr>
          <a:xfrm>
            <a:off x="468360" y="638172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C5AE-978D-4883-8A95-B3428DB5CDC0}" type="datetime">
              <a:rPr b="0" lang="en-NZ" sz="1400" spc="-1" strike="noStrike">
                <a:solidFill>
                  <a:srgbClr val="000000"/>
                </a:solidFill>
                <a:latin typeface="Tahoma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684360" y="1533600"/>
            <a:ext cx="799128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3399"/>
                </a:solidFill>
                <a:latin typeface="Verdana"/>
              </a:rPr>
              <a:t>Tonigh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ahoma"/>
              </a:rPr>
              <a:t>Familiarise yourself with different subjects and talk to teach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ahoma"/>
              </a:rPr>
              <a:t>Connect with the industry provi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ahoma"/>
              </a:rPr>
              <a:t>Explore different career op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ahoma"/>
              </a:rPr>
              <a:t>Keep your options op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ahoma"/>
              </a:rPr>
              <a:t>Talk and pray together as a fami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7" name="Group 7"/>
          <p:cNvGrpSpPr/>
          <p:nvPr/>
        </p:nvGrpSpPr>
        <p:grpSpPr>
          <a:xfrm>
            <a:off x="0" y="-12600"/>
            <a:ext cx="9174240" cy="1212840"/>
            <a:chOff x="0" y="-12600"/>
            <a:chExt cx="9174240" cy="1212840"/>
          </a:xfrm>
        </p:grpSpPr>
        <p:sp>
          <p:nvSpPr>
            <p:cNvPr id="508" name="Rectangle 6"/>
            <p:cNvSpPr/>
            <p:nvPr/>
          </p:nvSpPr>
          <p:spPr>
            <a:xfrm>
              <a:off x="0" y="98640"/>
              <a:ext cx="63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800" spc="-1" strike="noStrike">
                  <a:solidFill>
                    <a:srgbClr val="333399"/>
                  </a:solidFill>
                  <a:latin typeface="Verdana"/>
                </a:rPr>
                <a:t>Course Selection 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800" spc="-1" strike="noStrike">
                  <a:solidFill>
                    <a:srgbClr val="333399"/>
                  </a:solidFill>
                  <a:latin typeface="Verdana"/>
                </a:rPr>
                <a:t>and Careers Expo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509" name="Picture 9" descr=""/>
            <p:cNvPicPr/>
            <p:nvPr/>
          </p:nvPicPr>
          <p:blipFill>
            <a:blip r:embed="rId1"/>
            <a:stretch/>
          </p:blipFill>
          <p:spPr>
            <a:xfrm>
              <a:off x="5436360" y="-12600"/>
              <a:ext cx="373788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" name="Line 6"/>
            <p:cNvSpPr/>
            <p:nvPr/>
          </p:nvSpPr>
          <p:spPr>
            <a:xfrm>
              <a:off x="0" y="1197360"/>
              <a:ext cx="9144720" cy="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1"/>
          <p:cNvSpPr/>
          <p:nvPr/>
        </p:nvSpPr>
        <p:spPr>
          <a:xfrm>
            <a:off x="430200" y="1376280"/>
            <a:ext cx="8282160" cy="42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Tahoma"/>
              </a:rPr>
              <a:t>Right now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Tahoma"/>
              </a:rPr>
              <a:t>2017 Options Handbook </a:t>
            </a:r>
            <a:r>
              <a:rPr b="0" lang="en-NZ" sz="2800" spc="-1" strike="noStrike">
                <a:solidFill>
                  <a:srgbClr val="000000"/>
                </a:solidFill>
                <a:latin typeface="Tahoma"/>
              </a:rPr>
              <a:t>is on the school web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ahoma"/>
              </a:rPr>
              <a:t>Parents can login to KAMAR portal and select options. </a:t>
            </a:r>
            <a:br>
              <a:rPr sz="2800"/>
            </a:br>
            <a:r>
              <a:rPr b="0" lang="en-NZ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ahoma"/>
              </a:rPr>
              <a:t>Options can be changed up until close off day on </a:t>
            </a:r>
            <a:r>
              <a:rPr b="1" lang="en-NZ" sz="2800" spc="-1" strike="noStrike">
                <a:solidFill>
                  <a:srgbClr val="000000"/>
                </a:solidFill>
                <a:latin typeface="Tahoma"/>
              </a:rPr>
              <a:t>Monday 5</a:t>
            </a:r>
            <a:r>
              <a:rPr b="1" lang="en-NZ" sz="28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1" lang="en-NZ" sz="2800" spc="-1" strike="noStrike">
                <a:solidFill>
                  <a:srgbClr val="000000"/>
                </a:solidFill>
                <a:latin typeface="Tahoma"/>
              </a:rPr>
              <a:t> Septemb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Date Placeholder 1"/>
          <p:cNvSpPr/>
          <p:nvPr/>
        </p:nvSpPr>
        <p:spPr>
          <a:xfrm>
            <a:off x="446040" y="638172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DBE51-71BD-4145-BE9D-718FB5F6C2EE}" type="datetime">
              <a:rPr b="0" lang="en-NZ" sz="1400" spc="-1" strike="noStrike">
                <a:solidFill>
                  <a:srgbClr val="000000"/>
                </a:solidFill>
                <a:latin typeface="Tahoma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3" name="Group 7"/>
          <p:cNvGrpSpPr/>
          <p:nvPr/>
        </p:nvGrpSpPr>
        <p:grpSpPr>
          <a:xfrm>
            <a:off x="0" y="-12600"/>
            <a:ext cx="9174240" cy="1212840"/>
            <a:chOff x="0" y="-12600"/>
            <a:chExt cx="9174240" cy="1212840"/>
          </a:xfrm>
        </p:grpSpPr>
        <p:sp>
          <p:nvSpPr>
            <p:cNvPr id="514" name="Rectangle 6"/>
            <p:cNvSpPr/>
            <p:nvPr/>
          </p:nvSpPr>
          <p:spPr>
            <a:xfrm>
              <a:off x="0" y="98640"/>
              <a:ext cx="63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800" spc="-1" strike="noStrike">
                  <a:solidFill>
                    <a:srgbClr val="333399"/>
                  </a:solidFill>
                  <a:latin typeface="Verdana"/>
                </a:rPr>
                <a:t>Course Selection 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800" spc="-1" strike="noStrike">
                  <a:solidFill>
                    <a:srgbClr val="333399"/>
                  </a:solidFill>
                  <a:latin typeface="Verdana"/>
                </a:rPr>
                <a:t>and Careers Expo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515" name="Picture 9" descr=""/>
            <p:cNvPicPr/>
            <p:nvPr/>
          </p:nvPicPr>
          <p:blipFill>
            <a:blip r:embed="rId1"/>
            <a:stretch/>
          </p:blipFill>
          <p:spPr>
            <a:xfrm>
              <a:off x="5436360" y="-12600"/>
              <a:ext cx="373788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Line 6"/>
            <p:cNvSpPr/>
            <p:nvPr/>
          </p:nvSpPr>
          <p:spPr>
            <a:xfrm>
              <a:off x="0" y="1197360"/>
              <a:ext cx="9144720" cy="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Date Placeholder 1"/>
          <p:cNvSpPr/>
          <p:nvPr/>
        </p:nvSpPr>
        <p:spPr>
          <a:xfrm>
            <a:off x="46836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ACE84-343D-4EF3-9D96-5DFE6E4C594B}" type="datetime">
              <a:rPr b="0" lang="en-NZ" sz="1400" spc="-1" strike="noStrike">
                <a:solidFill>
                  <a:srgbClr val="000000"/>
                </a:solidFill>
                <a:latin typeface="Tahoma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Title 1"/>
          <p:cNvSpPr/>
          <p:nvPr/>
        </p:nvSpPr>
        <p:spPr>
          <a:xfrm>
            <a:off x="1805040" y="1630440"/>
            <a:ext cx="5533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Timetable 2017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4"/>
          <p:cNvSpPr/>
          <p:nvPr/>
        </p:nvSpPr>
        <p:spPr>
          <a:xfrm>
            <a:off x="214200" y="2297160"/>
            <a:ext cx="8715600" cy="40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uction of the timetable is based on student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ahoma"/>
              </a:rPr>
              <a:t>Student selection determines staff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lines are developed on a ‘best fit’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ahoma"/>
              </a:rPr>
              <a:t>Changing options after selection is not desir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ahoma"/>
              </a:rPr>
              <a:t>Students’ NCEA results determine final entry into a cour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0" name="Group 9"/>
          <p:cNvGrpSpPr/>
          <p:nvPr/>
        </p:nvGrpSpPr>
        <p:grpSpPr>
          <a:xfrm>
            <a:off x="0" y="-12600"/>
            <a:ext cx="9174240" cy="1212840"/>
            <a:chOff x="0" y="-12600"/>
            <a:chExt cx="9174240" cy="1212840"/>
          </a:xfrm>
        </p:grpSpPr>
        <p:sp>
          <p:nvSpPr>
            <p:cNvPr id="521" name="Rectangle 6"/>
            <p:cNvSpPr/>
            <p:nvPr/>
          </p:nvSpPr>
          <p:spPr>
            <a:xfrm>
              <a:off x="0" y="98640"/>
              <a:ext cx="63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800" spc="-1" strike="noStrike">
                  <a:solidFill>
                    <a:srgbClr val="333399"/>
                  </a:solidFill>
                  <a:latin typeface="Verdana"/>
                </a:rPr>
                <a:t>Course Selection 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800" spc="-1" strike="noStrike">
                  <a:solidFill>
                    <a:srgbClr val="333399"/>
                  </a:solidFill>
                  <a:latin typeface="Verdana"/>
                </a:rPr>
                <a:t>and Careers Expo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522" name="Picture 11" descr=""/>
            <p:cNvPicPr/>
            <p:nvPr/>
          </p:nvPicPr>
          <p:blipFill>
            <a:blip r:embed="rId1"/>
            <a:stretch/>
          </p:blipFill>
          <p:spPr>
            <a:xfrm>
              <a:off x="5436360" y="-12600"/>
              <a:ext cx="373788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Line 6"/>
            <p:cNvSpPr/>
            <p:nvPr/>
          </p:nvSpPr>
          <p:spPr>
            <a:xfrm>
              <a:off x="0" y="1197360"/>
              <a:ext cx="9144720" cy="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8"/>
          <p:cNvGrpSpPr/>
          <p:nvPr/>
        </p:nvGrpSpPr>
        <p:grpSpPr>
          <a:xfrm>
            <a:off x="0" y="-12600"/>
            <a:ext cx="9174240" cy="1212840"/>
            <a:chOff x="0" y="-12600"/>
            <a:chExt cx="9174240" cy="1212840"/>
          </a:xfrm>
        </p:grpSpPr>
        <p:sp>
          <p:nvSpPr>
            <p:cNvPr id="525" name="Rectangle 6"/>
            <p:cNvSpPr/>
            <p:nvPr/>
          </p:nvSpPr>
          <p:spPr>
            <a:xfrm>
              <a:off x="0" y="98640"/>
              <a:ext cx="63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800" spc="-1" strike="noStrike">
                  <a:solidFill>
                    <a:srgbClr val="333399"/>
                  </a:solidFill>
                  <a:latin typeface="Verdana"/>
                </a:rPr>
                <a:t>Course Selection 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800" spc="-1" strike="noStrike">
                  <a:solidFill>
                    <a:srgbClr val="333399"/>
                  </a:solidFill>
                  <a:latin typeface="Verdana"/>
                </a:rPr>
                <a:t>and Careers Expo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526" name="Picture 11" descr=""/>
            <p:cNvPicPr/>
            <p:nvPr/>
          </p:nvPicPr>
          <p:blipFill>
            <a:blip r:embed="rId1"/>
            <a:stretch/>
          </p:blipFill>
          <p:spPr>
            <a:xfrm>
              <a:off x="5436360" y="-12600"/>
              <a:ext cx="373788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Line 6"/>
            <p:cNvSpPr/>
            <p:nvPr/>
          </p:nvSpPr>
          <p:spPr>
            <a:xfrm>
              <a:off x="0" y="1197360"/>
              <a:ext cx="9144720" cy="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28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64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Date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C5F6D-F2F9-4471-9344-2F3EFF691F97}" type="datetime">
              <a:rPr b="0" lang="en-NZ" sz="1400" spc="-1" strike="noStrike">
                <a:solidFill>
                  <a:srgbClr val="000000"/>
                </a:solidFill>
                <a:latin typeface="Tahoma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Tahoma"/>
              </a:rPr>
              <a:t>Course Selection and Careers Expo 201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Title 1"/>
          <p:cNvSpPr/>
          <p:nvPr/>
        </p:nvSpPr>
        <p:spPr>
          <a:xfrm>
            <a:off x="190440" y="1197000"/>
            <a:ext cx="87631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3000"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333399"/>
                </a:solidFill>
                <a:latin typeface="Verdana"/>
              </a:rPr>
              <a:t>SUBJECT SELECTIO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-12600" y="1036800"/>
          <a:ext cx="9144000" cy="5883120"/>
        </p:xfrm>
        <a:graphic>
          <a:graphicData uri="http://schemas.openxmlformats.org/drawingml/2006/table">
            <a:tbl>
              <a:tblPr/>
              <a:tblGrid>
                <a:gridCol w="2340000"/>
                <a:gridCol w="2519280"/>
                <a:gridCol w="2160720"/>
                <a:gridCol w="2124000"/>
              </a:tblGrid>
              <a:tr h="426960"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EAR 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EAR 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EAR 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EAR 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621520"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COMPULSORY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*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* Mathemat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* Sci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* Social Stud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 </a:t>
                      </a:r>
                      <a:r>
                        <a:rPr b="0" lang="en-NZ" sz="18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Biblical Stud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* Heal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* Physical Edu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* </a:t>
                      </a:r>
                      <a:r>
                        <a:rPr b="0" lang="en-NZ" sz="18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</a:rPr>
                        <a:t>Plus 4 subj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COMPULSORY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r>
                        <a:rPr b="0" lang="en-NZ" sz="18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*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* Mathemat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* Biblical Studies </a:t>
                      </a:r>
                      <a:r>
                        <a:rPr b="1" lang="en-NZ" sz="1800" spc="-1" strike="noStrike" u="sng">
                          <a:solidFill>
                            <a:srgbClr val="0033cc"/>
                          </a:solidFill>
                          <a:uFillTx/>
                          <a:latin typeface="Arial"/>
                          <a:ea typeface="Arial"/>
                        </a:rPr>
                        <a:t>or</a:t>
                      </a:r>
                      <a:r>
                        <a:rPr b="0" lang="en-NZ" sz="18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NZ" sz="18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L1Religious Stud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* Physical Education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* </a:t>
                      </a:r>
                      <a:r>
                        <a:rPr b="0" lang="en-NZ" sz="18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</a:rPr>
                        <a:t>Plus 3 subj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COMPULSORY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* Biblical Studies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* </a:t>
                      </a:r>
                      <a:r>
                        <a:rPr b="0" lang="en-NZ" sz="18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</a:rPr>
                        <a:t>Plus 5 subj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COMPULSORY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33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Biblical Studies</a:t>
                      </a:r>
                      <a:br>
                        <a:rPr sz="1800"/>
                      </a:br>
                      <a:r>
                        <a:rPr b="0" lang="en-NZ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33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33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33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33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* </a:t>
                      </a:r>
                      <a:r>
                        <a:rPr b="0" lang="en-NZ" sz="18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</a:rPr>
                        <a:t>Plus 5 subj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2834640"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SUBJECT SELEC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lect </a:t>
                      </a:r>
                      <a:r>
                        <a:rPr b="0" lang="en-NZ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6 options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in order of p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elect 6 subjects, where the 5</a:t>
                      </a:r>
                      <a:r>
                        <a:rPr b="0" lang="en-NZ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amp; 6</a:t>
                      </a:r>
                      <a:r>
                        <a:rPr b="0" lang="en-NZ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re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CKUPS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SUBJECT SELEC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lect </a:t>
                      </a:r>
                      <a:r>
                        <a:rPr b="0" lang="en-NZ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4 option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 in order of p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elect 4 subjects, where the 4</a:t>
                      </a:r>
                      <a:r>
                        <a:rPr b="0" lang="en-NZ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 a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CKUP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SUBJECT SELEC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lect </a:t>
                      </a:r>
                      <a:r>
                        <a:rPr b="0" lang="en-NZ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6 options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in order of p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elect 6 subjects, where the 6</a:t>
                      </a:r>
                      <a:r>
                        <a:rPr b="0" lang="en-NZ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 a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CKUP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en-NZ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SUBJECT SELEC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lect </a:t>
                      </a:r>
                      <a:r>
                        <a:rPr b="0" lang="en-NZ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6 options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in order of p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elect 6 where the 6</a:t>
                      </a:r>
                      <a:r>
                        <a:rPr b="0" lang="en-NZ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subject is a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CKUP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7320" marR="67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</a:tr>
            </a:tbl>
          </a:graphicData>
        </a:graphic>
      </p:graphicFrame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Date Placeholder 1"/>
          <p:cNvSpPr/>
          <p:nvPr/>
        </p:nvSpPr>
        <p:spPr>
          <a:xfrm>
            <a:off x="46836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6AF14-980D-45F4-82AE-208856EC1BE7}" type="datetime">
              <a:rPr b="0" lang="en-NZ" sz="1400" spc="-1" strike="noStrike">
                <a:solidFill>
                  <a:srgbClr val="000000"/>
                </a:solidFill>
                <a:latin typeface="Tahoma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Title 1"/>
          <p:cNvSpPr/>
          <p:nvPr/>
        </p:nvSpPr>
        <p:spPr>
          <a:xfrm>
            <a:off x="1805040" y="1341360"/>
            <a:ext cx="5533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University Entrance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Rectangle 4"/>
          <p:cNvSpPr/>
          <p:nvPr/>
        </p:nvSpPr>
        <p:spPr>
          <a:xfrm>
            <a:off x="755640" y="2008080"/>
            <a:ext cx="777708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ahoma"/>
              </a:rPr>
              <a:t>To gain University Entrance students must have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ahoma"/>
              </a:rPr>
              <a:t>NCEA Level 3</a:t>
            </a:r>
            <a:br>
              <a:rPr sz="2800"/>
            </a:br>
            <a:r>
              <a:rPr b="0" lang="en-NZ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ahoma"/>
              </a:rPr>
              <a:t>Numeracy (10 credits at Level 1)</a:t>
            </a:r>
            <a:br>
              <a:rPr sz="2800"/>
            </a:br>
            <a:r>
              <a:rPr b="0" lang="en-NZ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ahoma"/>
              </a:rPr>
              <a:t>Literacy (5 specified reading credits and 5 specified writing credits from Level 2)</a:t>
            </a:r>
            <a:br>
              <a:rPr sz="2800"/>
            </a:br>
            <a:r>
              <a:rPr b="0" lang="en-NZ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ahoma"/>
              </a:rPr>
              <a:t>Three university approved subjects at Level 3 with at least 14 credits in ea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6" name="Group 8"/>
          <p:cNvGrpSpPr/>
          <p:nvPr/>
        </p:nvGrpSpPr>
        <p:grpSpPr>
          <a:xfrm>
            <a:off x="0" y="-12600"/>
            <a:ext cx="9174240" cy="1212840"/>
            <a:chOff x="0" y="-12600"/>
            <a:chExt cx="9174240" cy="1212840"/>
          </a:xfrm>
        </p:grpSpPr>
        <p:sp>
          <p:nvSpPr>
            <p:cNvPr id="537" name="Rectangle 6"/>
            <p:cNvSpPr/>
            <p:nvPr/>
          </p:nvSpPr>
          <p:spPr>
            <a:xfrm>
              <a:off x="0" y="98640"/>
              <a:ext cx="63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800" spc="-1" strike="noStrike">
                  <a:solidFill>
                    <a:srgbClr val="333399"/>
                  </a:solidFill>
                  <a:latin typeface="Verdana"/>
                </a:rPr>
                <a:t>Course Selection 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800" spc="-1" strike="noStrike">
                  <a:solidFill>
                    <a:srgbClr val="333399"/>
                  </a:solidFill>
                  <a:latin typeface="Verdana"/>
                </a:rPr>
                <a:t>and Careers Expo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538" name="Picture 10" descr=""/>
            <p:cNvPicPr/>
            <p:nvPr/>
          </p:nvPicPr>
          <p:blipFill>
            <a:blip r:embed="rId1"/>
            <a:stretch/>
          </p:blipFill>
          <p:spPr>
            <a:xfrm>
              <a:off x="5436360" y="-12600"/>
              <a:ext cx="373788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Line 6"/>
            <p:cNvSpPr/>
            <p:nvPr/>
          </p:nvSpPr>
          <p:spPr>
            <a:xfrm>
              <a:off x="0" y="1197360"/>
              <a:ext cx="9144720" cy="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Date Placeholder 1"/>
          <p:cNvSpPr/>
          <p:nvPr/>
        </p:nvSpPr>
        <p:spPr>
          <a:xfrm>
            <a:off x="46836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380B9-D818-4865-986F-6D21E3AD2EC0}" type="datetime">
              <a:rPr b="0" lang="en-NZ" sz="1400" spc="-1" strike="noStrike">
                <a:solidFill>
                  <a:srgbClr val="000000"/>
                </a:solidFill>
                <a:latin typeface="Tahoma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Title 1"/>
          <p:cNvSpPr/>
          <p:nvPr/>
        </p:nvSpPr>
        <p:spPr>
          <a:xfrm>
            <a:off x="1805040" y="1341360"/>
            <a:ext cx="5533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Rectangle 4"/>
          <p:cNvSpPr/>
          <p:nvPr/>
        </p:nvSpPr>
        <p:spPr>
          <a:xfrm>
            <a:off x="682560" y="1419120"/>
            <a:ext cx="7777080" cy="52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Selecting subjects via KAMA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1. Check Options Handbook for information on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subject cho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2. Login to </a:t>
            </a:r>
            <a:r>
              <a:rPr b="0" lang="en-N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amar.kingsway.school.nz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3. Select “course selection” at the bottom of the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left hand men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4. Select subjects in order of pre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5. Click “Save” to finish</a:t>
            </a:r>
            <a:br>
              <a:rPr sz="2800"/>
            </a:b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6. You can go back and change subjects as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often as you like up until Mon 5</a:t>
            </a:r>
            <a:r>
              <a:rPr b="0" lang="en-NZ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Sept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3" name="Group 8"/>
          <p:cNvGrpSpPr/>
          <p:nvPr/>
        </p:nvGrpSpPr>
        <p:grpSpPr>
          <a:xfrm>
            <a:off x="0" y="-12600"/>
            <a:ext cx="9174240" cy="1212840"/>
            <a:chOff x="0" y="-12600"/>
            <a:chExt cx="9174240" cy="1212840"/>
          </a:xfrm>
        </p:grpSpPr>
        <p:sp>
          <p:nvSpPr>
            <p:cNvPr id="544" name="Rectangle 6"/>
            <p:cNvSpPr/>
            <p:nvPr/>
          </p:nvSpPr>
          <p:spPr>
            <a:xfrm>
              <a:off x="0" y="98640"/>
              <a:ext cx="63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800" spc="-1" strike="noStrike">
                  <a:solidFill>
                    <a:srgbClr val="333399"/>
                  </a:solidFill>
                  <a:latin typeface="Verdana"/>
                </a:rPr>
                <a:t>Course Selection 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800" spc="-1" strike="noStrike">
                  <a:solidFill>
                    <a:srgbClr val="333399"/>
                  </a:solidFill>
                  <a:latin typeface="Verdana"/>
                </a:rPr>
                <a:t>and Careers Expo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545" name="Picture 10" descr=""/>
            <p:cNvPicPr/>
            <p:nvPr/>
          </p:nvPicPr>
          <p:blipFill>
            <a:blip r:embed="rId2"/>
            <a:stretch/>
          </p:blipFill>
          <p:spPr>
            <a:xfrm>
              <a:off x="5436360" y="-12600"/>
              <a:ext cx="373788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Line 6"/>
            <p:cNvSpPr/>
            <p:nvPr/>
          </p:nvSpPr>
          <p:spPr>
            <a:xfrm>
              <a:off x="0" y="1197360"/>
              <a:ext cx="9144720" cy="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Date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38DA9-2938-41E8-ACC3-2A180FA8882C}" type="datetime">
              <a:rPr b="0" lang="en-NZ" sz="1400" spc="-1" strike="noStrike">
                <a:solidFill>
                  <a:srgbClr val="000000"/>
                </a:solidFill>
                <a:latin typeface="Tahoma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Tahoma"/>
              </a:rPr>
              <a:t>Course Selection and Careers Expo 201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9" name="Picture 3" descr=""/>
          <p:cNvPicPr/>
          <p:nvPr/>
        </p:nvPicPr>
        <p:blipFill>
          <a:blip r:embed="rId1"/>
          <a:srcRect l="20668" t="0" r="21775" b="0"/>
          <a:stretch/>
        </p:blipFill>
        <p:spPr>
          <a:xfrm>
            <a:off x="471600" y="-747720"/>
            <a:ext cx="8280360" cy="808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Date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3923B-5844-439B-A447-E06AB291ACA5}" type="datetime">
              <a:rPr b="0" lang="en-NZ" sz="1400" spc="-1" strike="noStrike">
                <a:solidFill>
                  <a:srgbClr val="000000"/>
                </a:solidFill>
                <a:latin typeface="Tahoma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51" name="Picture 9" descr=""/>
          <p:cNvPicPr/>
          <p:nvPr/>
        </p:nvPicPr>
        <p:blipFill>
          <a:blip r:embed="rId1"/>
          <a:srcRect l="30079" t="9641" r="29522" b="7672"/>
          <a:stretch/>
        </p:blipFill>
        <p:spPr>
          <a:xfrm>
            <a:off x="2050920" y="196920"/>
            <a:ext cx="52578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5T02:04:39Z</dcterms:created>
  <dc:creator>bev dorman</dc:creator>
  <dc:description/>
  <dc:language>en-US</dc:language>
  <cp:lastModifiedBy>Louise Gray</cp:lastModifiedBy>
  <cp:lastPrinted>2013-08-29T05:17:57Z</cp:lastPrinted>
  <dcterms:modified xsi:type="dcterms:W3CDTF">2016-09-02T00:45:19Z</dcterms:modified>
  <cp:revision>120</cp:revision>
  <dc:subject/>
  <dc:title>What is NCEA</dc:title>
</cp:coreProperties>
</file>